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40CB-E276-4EE6-B483-FEB025812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’s example of equality a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example of child in Maggie’s study describing drawing of another students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funny for he is having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MCAS that I gave to Jul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the beginning of the year in an elementary school all students were doing re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l grades students had the same grammatical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0A1-2EF9-437B-B783-E3B557B6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8E7-53C6-4456-8B20-33E43320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66B-6A9C-48DE-A0A1-88DF5ED6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CFD-2774-4F16-8FEF-B13B6197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5858-6671-4DEC-AFFC-B81D512A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D87F-49B7-4D98-8C94-41F03E69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674E-8228-4DE3-BDFF-754E7CEA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B3D5-1C80-4695-8E33-B64081AD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EF38-B7EA-4F2E-906E-2BE3B7F0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7140-4584-4DD5-8CCA-3C98279F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E6C3-2DE5-417C-857A-8FEBD16C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C69-C6F5-4AA8-873F-CF830FD6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002C-E663-4F4E-8937-9AEB5D13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86B3-2DE9-4A38-93EF-1C4C9947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08A8-6AC5-4FDD-BA32-AE3F1C33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2821-26DB-4240-AB91-AEA850EC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B4E3-09B3-49C4-9F5B-6B899BD4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7DF72-33C8-4440-8466-10551199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1C9C-5464-4BA9-A571-0EAA7A78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CC7D5-B768-42FA-A558-8C8AF4AF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2E023-C642-40F1-AF69-B77A9232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84A1E-9730-46DC-A631-802744FF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A1D-587C-4A75-88F2-00D63BA7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22C0F-A23A-44F6-908B-B29B7E53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79B2-CC4A-4B5A-9234-2681B6BF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EE98E-7D79-4CA6-AD56-368964E8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CE493-DF82-4EE8-939B-4C033EFD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AC8B5-3ADA-4AC8-B27E-5AE567AF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FEE8-D1B1-48B6-A9B6-475025A3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75D0-05A6-44C5-BB48-A0945587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7588E-DA01-46A2-A4BA-2C4C1D72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0FD43-6BD4-4CFF-819B-D9679E12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CFDB4-7020-48FC-9918-655C1143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F0F-2E5A-416D-9673-56DC0FC4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F7FD8-2BE1-4BFC-B45D-15401CB1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42DDE-B273-46DE-91E9-C8571289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1734E-670F-4C2F-BF1A-55FE8D51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CFB41-75EC-42AD-8142-2DBB212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6CF7F-D622-40C4-99D8-725B16E8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59F35-AC3B-4CE8-831A-5BA36707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6CB15-23A6-406B-9504-CE0F7370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B0065-2641-40FF-819F-338A5A2A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7F66B-BB14-4A3D-ABD8-ADE746F7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9E8-FDFD-4DDA-8DA6-0F3F714F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76A-F079-47F5-9EC8-F131E5E5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8CD-9C23-426A-9B31-5C8EC5A8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316-703E-4615-9D16-C2551A8F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AC3-3A96-4479-B143-243C5AC6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F0B5-8A60-4487-A386-453856798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B92F-3852-44A9-8205-061EF94BD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7DF9-2961-4585-A90C-83A8EBBE9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25B5-A627-47EF-8095-500852DC0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glish in Schools:  Demanded and Overlook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Estela B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ston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sk@b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SL lif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-- they, like, speak Cambodian more because they more comfortable in it.  They don’t want to talk English sometime because -- when they go to school they don’t, like, really talking, right? But when at home they chatter-t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they kind of shy, you know,like when the teacher call on them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al language; 12 year old Cambodian stu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illmore &amp; Snow, 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17324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language needs to be ta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needs to be ta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ching English language to function in schoo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te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, thoughtful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multiple id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evelop scholarly oral langu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en we put it on the pole…em faces the other one it doesn’t stick but when we turned the other one around. It sticks together […] when we had em the things the first one like if you put it up in the air like that . you can feel the em . that they’re not pushing?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bbons (p.260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more explicit, do not assume a shared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determiners and pronouns w/ name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we put the magnet on the po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plete phrases and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put the magnets together and they don’t sti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omain-specific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put the north pole and the north pole together and they repel each other. We put the south pole and north pole together and they attract each othe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anguage beyond their personal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about objects in 3r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being the subject of the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north pole and the north pole will repel. The north pole and the south pole will attract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Packing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(writing) </a:t>
            </a:r>
            <a:br>
              <a:rPr sz="4400"/>
            </a:b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and unpacking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(reading)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language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17324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uminum is a metal and it is abundant. It has many uses and it comes from bauxite. Bauxite is an ore and it looks like clay” (Schleppegrell,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placement of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os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rela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repositional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uminum, an abundant metal that has many uses, comes from bauxite, an ore-like cl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7324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language needs to be ta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needs to be ta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needs to teach about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 does this teachin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teaching methods courses in various disciplines, in relation to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specialized in bilingualism and second languag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across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specialized in bilingualism and second languag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17324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language needs to be 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of overlook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needs to be 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needs to teach about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 prepare educators to include language in their 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icular and Instructional trans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language needs to be ta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needs to be ta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needs to teach about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e prepare educators to include language in their i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rses and Professional Development Inclu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shock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d Field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s connecting content area with langu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s with attention to content an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fical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structures: Descriptive, persuasive writing (Sci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: domain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predic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unchanging phenomena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mina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generaliz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enres of schooling (Table 4.1 Schleppegrell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Genres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Purpo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guistic featu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838080" y="1600200"/>
          <a:ext cx="7696440" cy="4191120"/>
        </p:xfrm>
        <a:graphic>
          <a:graphicData uri="http://schemas.openxmlformats.org/drawingml/2006/table">
            <a:tbl>
              <a:tblPr/>
              <a:tblGrid>
                <a:gridCol w="1295640"/>
                <a:gridCol w="2295360"/>
                <a:gridCol w="2565360"/>
                <a:gridCol w="154008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Re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(early primary gr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Retells a sequence of events, drawing on personal exper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Personal pronou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we, 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Material processes realized in past tense verbs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w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sa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Additive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lso, then, as we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 and  temporal conjunctions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st, 2nd, then, finall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One 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Yesterday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w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w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to the zoo. First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w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sa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the lions and bears.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The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we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sa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the snakes and I was scared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enres of schooling (Table 4.1 Schleppegrell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Genres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Purpo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guistic featu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838080" y="1600200"/>
          <a:ext cx="7772040" cy="4495320"/>
        </p:xfrm>
        <a:graphic>
          <a:graphicData uri="http://schemas.openxmlformats.org/drawingml/2006/table">
            <a:tbl>
              <a:tblPr/>
              <a:tblGrid>
                <a:gridCol w="1184760"/>
                <a:gridCol w="2441520"/>
                <a:gridCol w="2590560"/>
                <a:gridCol w="1555200"/>
              </a:tblGrid>
              <a:tr h="44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Nar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(early primary grad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Reports and evaluates problematic events and their outcome. Has a complicating action that results in an overall point to the story. Focuses on the action of participants in confronting proble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Use of past tense to recount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Use of present tense for meanings that are time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Evaluative word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didn’t lik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More difficult connectives: temporal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final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), cause/effec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even though, becau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) and comparis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More than one actor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snake, 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“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Final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, we came back to school. I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didn’t lik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going to the zoo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becau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the animals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a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always sad. My favorite animal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the snake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even thoug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he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scar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me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genres of schooling (Table 4.1 Schleppegrell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ual Genres (Procedure, Report)</a:t>
            </a:r>
            <a:br>
              <a:rPr sz="2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po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guistic Featur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80880" y="1600200"/>
          <a:ext cx="8458200" cy="4343040"/>
        </p:xfrm>
        <a:graphic>
          <a:graphicData uri="http://schemas.openxmlformats.org/drawingml/2006/table">
            <a:tbl>
              <a:tblPr/>
              <a:tblGrid>
                <a:gridCol w="1447920"/>
                <a:gridCol w="2781360"/>
                <a:gridCol w="2400120"/>
                <a:gridCol w="1828800"/>
              </a:tblGrid>
              <a:tr h="43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rocedu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(early primar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Reports a sequence of events with general participants.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Direc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and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instruc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are subgenres of proced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Timeless (simple present tense or imperativ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Directions (declarative clauses in simple present with you/we/on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Instructions use imperativ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Temporal connective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,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th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Generalized acto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Fir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, we fill the beaker with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Th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we mix the water with the earth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Fill a beaker with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Mix the water with the earth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genres of schooling (Table 4.1 Schleppegrell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ual Genres</a:t>
            </a:r>
            <a:br>
              <a:rPr sz="2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po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guistic Featur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676520"/>
          <a:ext cx="8458200" cy="4571280"/>
        </p:xfrm>
        <a:graphic>
          <a:graphicData uri="http://schemas.openxmlformats.org/drawingml/2006/table">
            <a:tbl>
              <a:tblPr/>
              <a:tblGrid>
                <a:gridCol w="1447920"/>
                <a:gridCol w="2781360"/>
                <a:gridCol w="2400120"/>
                <a:gridCol w="1828800"/>
              </a:tblGrid>
              <a:tr h="45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Repor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(middle and secondary schoo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Relates a set of facts, using specific statements to back up general ones. Organized by classification or part-whole relationships. Focus on classes of things, rather than individua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Verbs “to be” and “to have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Present tense to make generic refer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Domain-specific vocabulary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insect, branches, judicial..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Logical, not temporal organiz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 fly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an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inse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. It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h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six legs and four wings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The government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h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three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branch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. They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a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the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legislat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execut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, and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judici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branch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enres of schooling (Table 4.1 Schleppegrell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tical Genres</a:t>
            </a:r>
            <a:br>
              <a:rPr sz="2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guistic featur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600200"/>
          <a:ext cx="8305920" cy="4037760"/>
        </p:xfrm>
        <a:graphic>
          <a:graphicData uri="http://schemas.openxmlformats.org/drawingml/2006/table">
            <a:tbl>
              <a:tblPr/>
              <a:tblGrid>
                <a:gridCol w="1509840"/>
                <a:gridCol w="2341080"/>
                <a:gridCol w="2378520"/>
                <a:gridCol w="2076480"/>
              </a:tblGrid>
              <a:tr h="40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c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dds causal links to a recount; tells why things happened in a sequ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Nominalization of ev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Relational verbs that realize causal relationships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grew into, lead to, influence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Temporally organiz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The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opposition of anti-slavery effort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and the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resentment of outsider-interference in Southerners’ affair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grew int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sectionalism.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enres of schooling (Table 4.1 Schleppegrell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tical Genres</a:t>
            </a:r>
            <a:br>
              <a:rPr sz="2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guistic featur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57200" y="1600200"/>
          <a:ext cx="8381880" cy="4266720"/>
        </p:xfrm>
        <a:graphic>
          <a:graphicData uri="http://schemas.openxmlformats.org/drawingml/2006/table">
            <a:tbl>
              <a:tblPr/>
              <a:tblGrid>
                <a:gridCol w="1523880"/>
                <a:gridCol w="2362320"/>
                <a:gridCol w="2400480"/>
                <a:gridCol w="2095200"/>
              </a:tblGrid>
              <a:tr h="42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Expla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Explains and interprets a phenomenon. Mentions causes and consequen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Relational processes (verbs such as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indicate, reflect, show, influence, cause, lead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Logical organization (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name, then define, give caus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Timeless ver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Nominalization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sectionalis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“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Sectionalis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, an exaggerated loyalty to a particular region in the country,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is cause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by inside and outside factors.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enres of schooling (Table 4.1 Schleppegrell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tical Gen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85800" y="1752480"/>
          <a:ext cx="7772400" cy="463392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2361960"/>
                <a:gridCol w="21337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Gen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Linguistic fea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xposi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rgues why a thesis has been proposed, with more than one argument presented in favor of the judgment. Relies on generalization, classification and categoriza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Author presents commitment to a proposition by using objective vs. subjective language 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it is clear, likely, possible, usual, certa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Being authoritative (persuade reader without explicit feelings or attitudes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see pp. 100-10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Verbs that link nominal structures to make generalizations 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lies in, will cau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I thin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that sectionalism has bad consequences…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It is clea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that sectionalism has bad consequences for…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The real folly of human nature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lies 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people’s failure to realize that an exaggerated loyalty to local authorities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will cau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conflict at the national level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language needs to be ta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language needs to be 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needs to be 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needs to teach about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 prepare educators to include language in their 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icular and Instructional trans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expertise and confi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wid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glish is transparent for native speak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819520"/>
            <a:ext cx="2743200" cy="25146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2819520"/>
            <a:ext cx="259056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7996" dir="3776964" blurRad="0" rotWithShape="0">
              <a:srgbClr val="0099cc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glish is not transparent for non-native speak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2971800"/>
            <a:ext cx="259092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62440" y="3014280"/>
            <a:ext cx="2317680" cy="2048040"/>
          </a:xfrm>
          <a:prstGeom prst="rect">
            <a:avLst/>
          </a:prstGeom>
          <a:solidFill>
            <a:srgbClr val="0099cc">
              <a:alpha val="8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99cc">
                <a:alpha val="73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nguage demands: Understa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and Procedural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al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citation-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nguage demands: Spea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 to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 in peer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nguage demands: Re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ctional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itory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nguage demands: Wri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writing: recount, nar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ual writing: procedure,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ic writing: account, explanation, ex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22:41:50Z</dcterms:created>
  <dc:creator>Maria Brisk</dc:creator>
  <dc:description/>
  <dc:language>en-US</dc:language>
  <cp:lastModifiedBy>Jonathan Nabe</cp:lastModifiedBy>
  <dcterms:modified xsi:type="dcterms:W3CDTF">2006-03-01T18:57:10Z</dcterms:modified>
  <cp:revision>52</cp:revision>
  <dc:subject/>
  <dc:title>English in Schools:  Demanded and Overlooked</dc:title>
</cp:coreProperties>
</file>