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E9BA-70B0-4683-B358-D99040E99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’s example of equality a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example of child in Maggie’s study describing drawing of another students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funny for he is having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MCAS that I gave to Jul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from the beginning of the year in an elementary school all students were doing re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l grades students had the same grammatical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14E-2CB1-4AD5-8CC1-B0CC4387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FF0-7642-4B8A-B973-E2290B94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B23-733D-451E-9884-34964421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0A5-508B-43E2-96A5-5D14BFF1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7847-ECFD-4E14-80CC-7F0947E5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7CA0-6416-408A-AD3A-92B6B376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2701-5C0E-49F3-8879-F7F555C3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D81A-F0A7-421D-9B82-0C1B2F94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707E-F6F3-4E46-B673-8B48C944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16D7-C2E7-4E14-9FDE-D9E52B18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8CD8-E655-4D1C-A37A-EC684449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D00-440D-4350-BEBD-8C67C62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0FAA-A767-4326-BFC6-B9F70AC9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A9BE-F47D-4705-97F4-951E0818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BD73-255C-4D24-98FD-3F4A276E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7122-8E9F-42A7-9FA9-0293AB2D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EFAA-9DFC-4BD5-9124-3CA15A88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17F0-D761-4340-9C64-A6344323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80CB-0B01-47E9-A83B-19DB14AF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B9B0-EEDC-4935-B451-0DA060B7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4EF16-7436-4B29-87CE-3EAC164F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3363-EB82-41F6-B5F8-5CCE1345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85C-3872-42E5-8947-744421C8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15BC-2B8A-47E7-9C3F-398EAA38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A3A9-A10D-4BA6-B07B-5E023BB8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ABD4-D0D4-4C42-8FBE-E938A433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C3CF-AFFA-475F-BBE0-B5095240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83CBE-0590-43C2-8E8F-EDBF7362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133F-5F99-4B4B-A6A1-6BC024C7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BE93-43D9-418B-927D-AAEBD938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A41ED-4DD6-430B-89CA-C9647036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B618D-EA89-4F9F-8978-6F2B937E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80CEF-5D7A-4206-8EBE-75DE10AA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197-0D67-4E51-AAF8-38A754EC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9DF80-BA97-4EF0-8BE0-9E60D09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47FB-2DEB-42BD-94E7-D86DAB02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56E3-9171-41DF-ADE6-15801732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6CCAB-C2D9-4956-ACF4-83C62F17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47CE-8842-44B5-8FDB-D693A9A4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534B-4146-4433-9515-C0D1A766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D83D5-33ED-4571-9297-985C3ED6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7C4C-5276-4254-BD42-EF390322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AFC7-2604-481F-9181-AC6902B9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613-1226-4BEE-B12E-A5C51899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BCF-70C6-44E7-994C-DCEFCF8D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608-5E12-43FA-BEC3-FC97172C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31B-5CD9-49C2-BB55-3FAE0B9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713-F5DE-478B-8EB9-FF501947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A01A-03D2-412C-906F-B664A1433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E147-CD86-4712-9F2A-02A3FE518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9218-8659-4C72-890E-B5A5E896B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AFAA-4DEF-4E1F-A642-9BAC6043B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glish in Schools:  Demanded and Overlook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Estela B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sto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sk@b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SL lif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-- they, like, speak Cambodian more because they more comfortable in it.  They don’t want to talk English sometime because -- when they go to school they don’t, like, really talking, right? But when at home they chatter-t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they kind of shy, you know,like when the teacher call on them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al language; 12 year old Cambodian stu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llmore &amp; Snow,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ching English language to function in scho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, thoughtful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multiple id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velop scholarly oral langu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n we put it on the pole…em faces the other one it doesn’t stick but when we turned the other one around. It sticks together […] when we had em the things the first one like if you put it up in the air like that . you can feel the em . that they’re not pushing?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bbons (p.260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ore explicit, do not assume a shared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determiners and pronouns w/ name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we put the magnet on the po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plete phrases and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put the magnets together and they don’t sti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omain-specif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put the north pole and the north pole together and they repel each other. We put the south pole and north pole together and they attract each oth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anguage beyond their personal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about objects in 3r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eing the subject of the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orth pole and the north pole will repel. The north pole and the south pole will attrac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Pack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(writing) </a:t>
            </a:r>
            <a:br>
              <a:rPr sz="4400"/>
            </a:b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and unpack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(reading)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language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uminum is a metal and it is abundant. It has many uses and it comes from bauxite. Bauxite is an ore and it looks like clay” (Schleppegrell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placement of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os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rela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repositional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uminum, an abundant metal that has many uses, comes from bauxite, an ore-like cl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7324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needs to teach about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does this teach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teaching methods courses in various disciplines, in relation to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specialized in bilingualism and second languag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specialized in bilingualism and second languag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 overlook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needs to be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needs to teach about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 prepare educators to include language in their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icular and Instructional trans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needs to teach about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prepare educators to include language in their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s and Professional Development Inclu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shock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Field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s connecting content area with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 with attention to content a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fical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structures: Descriptive, persuasive writing (Sci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: domain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predic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unchanging phenomena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mina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general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Genres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Purpo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838080" y="1600200"/>
          <a:ext cx="7696440" cy="4191120"/>
        </p:xfrm>
        <a:graphic>
          <a:graphicData uri="http://schemas.openxmlformats.org/drawingml/2006/table">
            <a:tbl>
              <a:tblPr/>
              <a:tblGrid>
                <a:gridCol w="1295640"/>
                <a:gridCol w="2295360"/>
                <a:gridCol w="2565360"/>
                <a:gridCol w="154008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Re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(early primary gr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Retells a sequence of events, drawing on personal exper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Personal prono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we, 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Material processes realized in past tense verbs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w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a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Additive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lso, then, as we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 and  temporal conjunctions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st, 2nd, then, finall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One 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Yesterday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w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w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o the zoo. First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w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sa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e lions and bears.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Th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w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sa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e snakes and I was scared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Genres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Purpo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838080" y="1600200"/>
          <a:ext cx="7772040" cy="4495320"/>
        </p:xfrm>
        <a:graphic>
          <a:graphicData uri="http://schemas.openxmlformats.org/drawingml/2006/table">
            <a:tbl>
              <a:tblPr/>
              <a:tblGrid>
                <a:gridCol w="1184760"/>
                <a:gridCol w="2441520"/>
                <a:gridCol w="2590560"/>
                <a:gridCol w="1555200"/>
              </a:tblGrid>
              <a:tr h="44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Nar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(early primary grad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Reports and evaluates problematic events and their outcome. Has a complicating action that results in an overall point to the story. Focuses on the action of participants in confronting proble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Use of past tense to recount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Use of present tense for meanings that are time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Evaluative word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didn’t lik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More difficult connectives: temporal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final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, cause/effec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even though, becau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 and comparis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More than one actor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snake, 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“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Final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, we came back to school. I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didn’t lik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going to the zoo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becau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the animals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a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always sad. My favorite animal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the snake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even thoug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h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sca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me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ual Genres (Procedure, Report)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80880" y="1600200"/>
          <a:ext cx="8458200" cy="4343040"/>
        </p:xfrm>
        <a:graphic>
          <a:graphicData uri="http://schemas.openxmlformats.org/drawingml/2006/table">
            <a:tbl>
              <a:tblPr/>
              <a:tblGrid>
                <a:gridCol w="1447920"/>
                <a:gridCol w="2781360"/>
                <a:gridCol w="2400120"/>
                <a:gridCol w="1828800"/>
              </a:tblGrid>
              <a:tr h="43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rocedu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(early primar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Reports a sequence of events with general participants.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Dire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and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instru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are subgenres of proced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Timeless (simple present tense or imperativ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Directions (declarative clauses in simple present with you/we/on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Instructions use imperativ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Temporal connective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th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Generalized acto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Fir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we fill the beaker with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Th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we mix the water with the earth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Fill a beaker with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Mix the water with the earth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ual Genres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676520"/>
          <a:ext cx="8458200" cy="4571280"/>
        </p:xfrm>
        <a:graphic>
          <a:graphicData uri="http://schemas.openxmlformats.org/drawingml/2006/table">
            <a:tbl>
              <a:tblPr/>
              <a:tblGrid>
                <a:gridCol w="1447920"/>
                <a:gridCol w="2781360"/>
                <a:gridCol w="2400120"/>
                <a:gridCol w="1828800"/>
              </a:tblGrid>
              <a:tr h="45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Repor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(middle and secondary schoo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Relates a set of facts, using specific statements to back up general ones. Organized by classification or part-whole relationships. Focus on classes of things, rather than individua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Verbs “to be” and “to have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Present tense to make generic refer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Domain-specific vocabulary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insect, branches, judicial..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Logical, not temporal organiz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 fly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an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ins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. It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h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six legs and four wings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The government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h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re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branch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. They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a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legislat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execut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, and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judi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branch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tical Genres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600200"/>
          <a:ext cx="8305920" cy="4037760"/>
        </p:xfrm>
        <a:graphic>
          <a:graphicData uri="http://schemas.openxmlformats.org/drawingml/2006/table">
            <a:tbl>
              <a:tblPr/>
              <a:tblGrid>
                <a:gridCol w="1509840"/>
                <a:gridCol w="2341080"/>
                <a:gridCol w="2378520"/>
                <a:gridCol w="2076480"/>
              </a:tblGrid>
              <a:tr h="40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c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dds causal links to a recount; tells why things happened in a 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Nominalization of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Relational verbs that realize causal relationships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grew into, lead to, influence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Temporally organiz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Th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opposition of anti-slavery effort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and th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resentment of outsider-interference in Southerners’ affair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grew int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ectionalism.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tical Genres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guistic featur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600200"/>
          <a:ext cx="8381880" cy="4266720"/>
        </p:xfrm>
        <a:graphic>
          <a:graphicData uri="http://schemas.openxmlformats.org/drawingml/2006/table">
            <a:tbl>
              <a:tblPr/>
              <a:tblGrid>
                <a:gridCol w="1523880"/>
                <a:gridCol w="2362320"/>
                <a:gridCol w="2400480"/>
                <a:gridCol w="2095200"/>
              </a:tblGrid>
              <a:tr h="42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Expla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Explains and interprets a phenomenon. Mentions causes and conseque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Relational processes (verbs such a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indicate, reflect, show, influence, cause, lead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Logical organization (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name, then define, give cau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Timeless v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 Nominalization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sectional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“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Sectional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, an exaggerated loyalty to a particular region in the country,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is cause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by inside and outside factors.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nres of schooling (Table 4.1 Schleppegrell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tical Gen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5800" y="1752480"/>
          <a:ext cx="7772400" cy="46339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2361960"/>
                <a:gridCol w="2133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Gen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inguistic 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xposi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rgues why a thesis has been proposed, with more than one argument presented in favor of the judgment. Relies on generalization, classification and categoriz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Author presents commitment to a proposition by using objective vs. subjective language 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it is clear, likely, possible, usual, certa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Being authoritative (persuade reader without explicit feelings or attitudes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see pp. 100-10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- Verbs that link nominal structures to make generalizations 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ies in, will cau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I thin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at sectionalism has bad consequences…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It is cle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that sectionalism has bad consequences for…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The real folly of human nature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lies 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people’s failure to realize that an exaggerated loyalty to local authorities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ヒラギノ角ゴ Pro W3"/>
                        </a:rPr>
                        <a:t>will cau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 conflict at the national level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language needs to be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needs to be ta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needs to teach about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 prepare educators to include language in their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icular and Instructional trans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expertise and conf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wid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glish is transparent for native speak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819520"/>
            <a:ext cx="2743200" cy="25146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819520"/>
            <a:ext cx="259056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37996" dir="3776964" blurRad="0" rotWithShape="0">
              <a:srgbClr val="0099cc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glish is not transparent for non-native speak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2971800"/>
            <a:ext cx="259092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62440" y="3014280"/>
            <a:ext cx="2317680" cy="2048040"/>
          </a:xfrm>
          <a:prstGeom prst="rect">
            <a:avLst/>
          </a:prstGeom>
          <a:solidFill>
            <a:srgbClr val="0099cc">
              <a:alpha val="8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99cc">
                <a:alpha val="73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nguage demands: Underst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and Procedura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citation-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nguage demands: Spea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peer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nguage demands: Re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ctional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nguage demands: Wri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writing: recount,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ual writing: procedure,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 writing: account, explanation, ex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22:41:50Z</dcterms:created>
  <dc:creator>Maria Brisk</dc:creator>
  <dc:description/>
  <dc:language>en-US</dc:language>
  <cp:lastModifiedBy>Jonathan Nabe</cp:lastModifiedBy>
  <dcterms:modified xsi:type="dcterms:W3CDTF">2006-03-01T18:57:10Z</dcterms:modified>
  <cp:revision>52</cp:revision>
  <dc:subject/>
  <dc:title>English in Schools:  Demanded and Overlooked</dc:title>
</cp:coreProperties>
</file>