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309-956E-4700-B865-EF57DAEC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day I’d like to tell you about DigitalCommons@UConn, the UConn institutional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I talk about the institutional repository, and to give you some important context, let’s look at some recent trends in scholarly communic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placed in the reposi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be in electronic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be connected to UConn in some way: authored by UConn faculty/staff/students, issued by UConn research centers/institutes/departments, products of UConn-sponsored conferences, workshops, or colloquia, and so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and your department gain fro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vailability means easier access and faster dissemination to a global audience; it really is “free on the Web”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ing by major search engines means that research can be easily 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ations of your work might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visibility is also good advertising to attract new faculty and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UConn intellectual output gathered in on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ed to devote personal, department or center staff time and effort to maintaining these materials; individuals don’t need to maintain a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partment can decide what it wants to include and how content should be arr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brand your area with your department or center logo and explanatory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is committed to preserving the content placed in the institutional repository and migrating it to new formats to the best of our 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Commons@UConn is very easy to u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is the basic unit – a community can be a department, a research center or group, an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will set up the community in th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 a community administrator – can be staff, students, faculty, or lia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administrator is responsible f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ing or monitoring submissions, depending on the community’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administrator will spend roughly one hour per week in this role after training, or more or less depending on the size and activity level of the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ng with the file, submissions to the repository must include title, author name, and a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now you’re saying “Great!  What do we do next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’s what to do nex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this URL to see the repository liv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ope you’ll decide to particip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either your liaison or Jonathan Nabe, the library’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who will be community administrator – the person must attend a short trainin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submitting files to the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’s look at scholarly journals first – there are three ma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st of academic journals continues to increase at an astounding rate, continuing the trend of the last twenty yea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1986-2004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expenditures on journals increased 27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cost, or cost per title, increased roughly 12% per year, for a total of 1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rease in the Consumer Price Index for this same period was only 7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cost increases are greater in the sciences and less in the huma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over the past twenty years, the number of journals published has increased shar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any fields, more and more specialized titles continue to app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at same time, the total number of journals purchased by libraries has remained constant or de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let’s look at books over the same twenty-year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st of scholarly books has increased more slowly than journal costs, but it’s still increased more than the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1986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cost of a scholarly monograph increased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ook expenditures have increased *only* 6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ith journals, there have been an increasing number of books published, BU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otal number of books purchased by libraries is down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hort, book purchases have been sacrificed to make journal purch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particular myth often cripples discussion of library resources, so let’s dispel that myt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st because a journal or book is electronic doesn’t mean it’s cheaper than pri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ulk of publishing costs are in editorial activ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 and printing are only a fraction of publishers’ co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udget increases have not been anywhere close to what is needed keep up with skyrocketing book and journal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this same period, from 1986 to 2004, materials budget increases have averaged about 5% per year at large, well-funded research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ly, in two out of the past five years, the UConn Library has received NO budget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udgets buy less and 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es must buy fewer journals and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receives many of our electronic journals bundled in packages; packages may give us a few more titles, but they decrease the library’s ability to add or drop individual titles, giving us less control over both our journal collections and what we spend o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er books and journals available at libraries across the country mea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access to curren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visibility of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 scholarly materials is increasingly restricted to those who can *pay* -- the “have-nots,” whose budgets cannot match book and journal price increases, are themselves increasing in number with 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olutions addressing the growing difference between book and journal costs and available funding have begun to app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“open access” concept, that materials should be freely available to anyone, is making inroads at the polic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European nations support open access to public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 Congress is considering bills that would mandate open access for publicly-funde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ational Institutes of Health developed a voluntary policy in 2005 which “requests and strongly encourages all investigators to make their NIH-funded peer-reviewed, author's final manuscript available to other researchers and the public through the National Library of Medicine's PubMed Central immediatel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nal date of journal publication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s have developed tools of their own to expand access to and speed dissemination of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st known is arXiv [pronounced “archive”], which originated at Los Alamos National Laboratory; arXiv receives and makes accessible preprint articles in physics, mathematics, the nonlinear sciences, computer science, and quantitative biology.  This site receives several hundred thousand hits every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ndividual scholars maintain their own websites and post their research t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ans have also responded in several 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C represents an effort to pool resources and produce journals that compete directly with high-price commercial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es have been key players in the development of institutional repositories, which are similar to discipline-based projects such as arXiv, but established at the institutional level instead of by disci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n institutional reposito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Nabe, coordinator of the UConn Libraries’ pilot project, describes DigitalCommons@UConn 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ther words, it’s a place to put stuff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hat stuff can be put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intellectual outpu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that would be published through traditional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usually not published (“grey literature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14BC-6796-4A6B-83C3-CC1ADA4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C7CD-2F40-4228-BC1D-EF02031F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DB76-A277-45B6-B6A8-821BC0B9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F25E-5BE6-4FB7-BE70-FFDE036E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A38-3B12-454F-B381-A474AE90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474-48B3-40A6-A2F5-4685459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89E-F951-41FD-9AD4-B95EEB45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ED8B-E4C3-41AE-8395-181871D0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700-BFBC-4C0E-BB9F-DAA3629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5EA0-A348-4F86-9F2B-72EB482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468-504E-4126-BDD1-B8B4356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3AA8-26FA-42E3-A86D-588DDD2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6E2-ADD2-493B-B4BE-9BD2A8F3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489-FEB8-4137-A9A0-69594B1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B44-24EA-42C8-BAB1-D4EFD5E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20C8-8412-4F55-9146-AC58827D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AE65-A4BB-4D62-8497-879CDB8C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B165-0DD1-49A3-893F-34D1F08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FEC4-56C9-4C26-97D1-1DF91D8C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F226-2941-4797-B420-6233385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3D75-7DD9-4704-9D00-0D68ACD7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E482-91F4-4450-B9D3-214251D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8587-5120-4B45-84B7-E4B79D2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45A6-4A1D-42F7-92FA-25BE6F6B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B58-2551-40BA-BFBE-1A97C6C52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356-ED72-4B6D-9334-7E691EC83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igitalcommons.uconn.ed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cholarly Communication T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nly requireme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ials are in electronic form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D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PE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S Wo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PEG/GIF/TI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X/LaTe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ick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ML/XM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and so 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ials must be connected to UCon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 help yo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es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vailable via the Internet, for fre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isi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aterials are picked up by Google,  Yahoo!, and other search eng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ll UConn materials in one place, with permanent UR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exi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you decide what materials you will  include, how they will be arranged, and how you will “brand” your con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ng term preserv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preservation of content and format migration by the lib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 is easy to us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ibrary coordinator sets up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oin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 administ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licy compli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ading or monitoring submis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imated time commitment: One hour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missions require the file, title, author(s), date, and (optional) keywords &amp;/or 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 steps for join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igitalcommons.uconn.edu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ct the library coordinator or your liai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nathan Nabe  jonathan.nabe@uconn.e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aison Name  liaison.email@uconn.e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de on a community administ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 submitt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journal subscriptions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1986-2004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expenditures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7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cost (per title)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8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journals pu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number of journals purchas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ained constant 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* Source: “Monograph and Serial Expenditures in ARL Libraries, 1986-2004: graph 2” in </a:t>
            </a:r>
            <a:r>
              <a:rPr b="0" i="1" lang="en-US" sz="1000" spc="-1" strike="noStrike">
                <a:solidFill>
                  <a:srgbClr val="ffffff"/>
                </a:solidFill>
                <a:latin typeface="Garamond"/>
              </a:rPr>
              <a:t>ARL Statistics 2003-04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..  Washington, D.C.: Association of Research Libraries, 2005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scholarly books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1986-2004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cost (per title)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7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expenditures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3%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books pu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number of books purchas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ains below 1986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* Source: “Monograph and Serial Expenditures in ARL Libraries, 1986-2004: graph 2” in </a:t>
            </a:r>
            <a:r>
              <a:rPr b="0" i="1" lang="en-US" sz="1000" spc="-1" strike="noStrike">
                <a:solidFill>
                  <a:srgbClr val="ffffff"/>
                </a:solidFill>
                <a:latin typeface="Garamond"/>
              </a:rPr>
              <a:t>ARL Statistics 2003-04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..  Washington, D.C.: Association of Research Libraries, 2005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-journals and e-book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eap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brary budgets have not kept up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k and journal cos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86-2004: Increase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% per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Conn: No increase 2 of last 5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ibraries cut journal sub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ibraries buy fewer b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this decrease in library purchasing mean for faculty members and research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ess access to current 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ess visibility o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your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s: National and international support for “open acces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lars/Authors: Pre-print archives, individual web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: SPARC (lower-cost journals), institutional reposit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electronic repository of the intellectu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put of the University of Connectic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ty, and [it] represents a way for UCon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rganize, store and preserve its research 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l form in a single unified locati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 Jonathan Nabe, UConn Libra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shed mate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urnal arti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k chap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ited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1444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published mate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ing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erence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erence presen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al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est le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colloqu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s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0:43:41Z</dcterms:created>
  <dc:creator>Janice Christopher</dc:creator>
  <dc:description/>
  <dc:language>en-US</dc:language>
  <cp:lastModifiedBy>Jonathan Nabe</cp:lastModifiedBy>
  <dcterms:modified xsi:type="dcterms:W3CDTF">2006-05-24T14:52:02Z</dcterms:modified>
  <cp:revision>45</cp:revision>
  <dc:subject/>
  <dc:title>DigitalCommons@UConn</dc:title>
</cp:coreProperties>
</file>