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B5C9-41EF-4A77-82D5-4C18CF881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day I’d like to tell you about DigitalCommons@UConn, the UConn institutional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fore I talk about the institutional repository, and to give you some important context, let’s look at some recent trends in scholarly communic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 placed in the reposi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be in electronic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be connected to UConn in some way: authored by UConn faculty/staff/students, issued by UConn research centers/institutes/departments, products of UConn-sponsored conferences, workshops, or colloquia, and so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and your department gain fro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s@UCon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vailability means easier access and faster dissemination to a global audience; it really is “free on the Web”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ing by major search engines means that research can be easily 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ations of your work might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visibility is also good advertising to attract new faculty and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UConn intellectual output gathered in one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ed to devote personal, department or center staff time and effort to maintaining these materials; individuals don’t need to maintain a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partment can decide what it wants to include and how content should be arr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brand your area with your department or center logo and explanatory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is committed to preserving the content placed in the institutional repository and migrating it to new formats to the best of our 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Commons@UConn is very easy to us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unity is the basic unit – a community can be a department, a research center or group, an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will set up the community in the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oint a community administrator – can be staff, students, faculty, or lia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unity administrator is responsible f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 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ing or monitoring submissions, depending on the community’s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unity administrator will spend roughly one hour per week in this role after training, or more or less depending on the size and activity level of the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ng with the file, submissions to the repository must include title, author name, and a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now you’re saying “Great!  What do we do next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’s what to do nex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this URL to see the repository liv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hope you’ll decide to particip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either your liaison or Jonathan Nabe, the library’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s@UConn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who will be community administrator – the person must attend a short training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submitting files to the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’s look at scholarly journals first – there are three main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st of academic journals continues to increase at an astounding rate, continuing the trend of the last twenty yea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1986-2004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expenditures on journals increased 27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t cost, or cost per title, increased roughly 12% per year, for a total of 18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rease in the Consumer Price Index for this same period was only 7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cost increases are greater in the sciences and less in the huma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over the past twenty years, the number of journals published has increased shar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many fields, more and more specialized titles continue to app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that same time, the total number of journals purchased by libraries has remained constant or decr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let’s look at books over the same twenty-year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st of scholarly books has increased more slowly than journal costs, but it’s still increased more than the C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1986-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t cost of a scholarly monograph increased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book expenditures have increased *only* 6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with journals, there have been an increasing number of books published, BU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otal number of books purchased by libraries is down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hort, book purchases have been sacrificed to make journal purcha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particular myth often cripples discussion of library resources, so let’s dispel that myth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st because a journal or book is electronic doesn’t mean it’s cheaper than prin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ulk of publishing costs are in editorial activ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per and printing are only a fraction of publishers’ co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budget increases have not been anywhere close to what is needed keep up with skyrocketing book and journal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this same period, from 1986 to 2004, materials budget increases have averaged about 5% per year at large, well-funded research instit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ly, in two out of the past five years, the UConn Library has received NO budget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budgets buy less and 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ies must buy fewer journals and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brary receives many of our electronic journals bundled in packages; packages may give us a few more titles, but they decrease the library’s ability to add or drop individual titles, giving us less control over both our journal collections and what we spend on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wer books and journals available at libraries across the country mea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access to current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visibility of you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to scholarly materials is increasingly restricted to those who can *pay* -- the “have-nots,” whose budgets cannot match book and journal price increases, are themselves increasing in number with 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solutions addressing the growing difference between book and journal costs and available funding have begun to app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“open access” concept, that materials should be freely available to anyone, is making inroads at the polic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European nations support open access to public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S Congress is considering bills that would mandate open access for publicly-funde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ational Institutes of Health developed a voluntary policy in 2005 which “requests and strongly encourages all investigators to make their NIH-funded peer-reviewed, author's final manuscript available to other researchers and the public through the National Library of Medicine's PubMed Central immediatel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inal date of journal publication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olars have developed tools of their own to expand access to and speed dissemination of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est known is arXiv [pronounced “archive”], which originated at Los Alamos National Laboratory; arXiv receives and makes accessible preprint articles in physics, mathematics, the nonlinear sciences, computer science, and quantitative biology.  This site receives several hundred thousand hits every 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ndividual scholars maintain their own websites and post their research t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ians have also responded in several 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RC represents an effort to pool resources and produce journals that compete directly with high-price commercial tit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ies have been key players in the development of institutional repositories, which are similar to discipline-based projects such as arXiv, but established at the institutional level instead of by disci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an institutional reposito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athan Nabe, coordinator of the UConn Libraries’ pilot project, describes DigitalCommons@UConn a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ther words, it’s a place to put stuff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hat stuff can be put 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s@UCon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intellectual outpu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 that would be published through traditional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 usually not published (“grey literature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9A73-E911-4557-AC17-17D68AAE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DEC2-D52C-41E0-9D3F-F6CA838E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600A-E509-41A5-AEB7-28513FF5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F980-CBD8-4350-82B6-4C7294EA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6F40-E072-4E49-9B1F-BF9E47D1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5B79-09CD-4E41-9E58-9924EF0E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C9C-01AD-4457-B088-7D8B6633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8795-6DC7-488C-BF55-10EE5234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47D2-D6BA-4903-97F2-D63A8C40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4A73-4FE8-41B2-ACEC-43E6ADEE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2995-DF07-4AB2-8C26-FDD8FC99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F77B-5180-464F-9385-4D9B253F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06A4-B4D9-4AA7-8BA6-6F633601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FB74-2443-4DC1-B207-09EAFEF0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5F0D-0562-4DBF-A3EA-5CD283FE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B646-39E5-41E0-8B14-8D4A8D3F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5AB4-EE60-421E-9FAA-09EEADBD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B7A4-CE12-48F5-91E1-1BAE2C34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8F50-25E7-4648-96DC-0239A123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819F-A93E-40DB-A28D-23F33995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ABA3-9A3F-4046-A2C8-7246A9B7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A949-4877-428B-9682-7624131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F97F-357C-478E-A821-B760D28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52C6-7E90-401C-83CD-463D1FE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AF4D-B8F8-4554-86B1-68587D0EC6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E55A-6DD3-4602-BE83-97CFD7D98C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igitalcommons.uconn.edu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cholarly Communication To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the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nly requiremen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rials are in electronic forma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D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PE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S Wo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PEG/GIF/TIF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X/LaTeX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ick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ML/XM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…and so on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rials must be connected to UCon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4876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s@UConn help you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ces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vailable via the Internet, for fre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isi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materials are picked up by Google,  Yahoo!, and other search eng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ll UConn materials in one place, with permanent UR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lexi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you decide what materials you will  include, how they will be arranged, and how you will “brand” your cont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ng term preserv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preservation of content and format migration by the libr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s@UConn is easy to us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ibrary coordinator sets up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oint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ty administ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licy compli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ading or monitoring submis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imated time commitment: One hour per we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missions require the file, title, author(s), date, and (optional) keywords &amp;/or ab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xt steps for join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s@UCon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igitalcommons.uconn.edu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ct the library coordinator or your liai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nathan Nabe  jonathan.nabe@uconn.e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aison Name  liaison.email@uconn.e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de on a community administ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 submitt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journal subscriptions*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1986-2004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 expenditures u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73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 cost (per title) u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88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journals publ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 number of journals purchas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ained constant 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cre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* Source: “Monograph and Serial Expenditures in ARL Libraries, 1986-2004: graph 2” in </a:t>
            </a:r>
            <a:r>
              <a:rPr b="0" i="1" lang="en-US" sz="1000" spc="-1" strike="noStrike">
                <a:solidFill>
                  <a:srgbClr val="ffffff"/>
                </a:solidFill>
                <a:latin typeface="Garamond"/>
              </a:rPr>
              <a:t>ARL Statistics 2003-04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..  Washington, D.C.: Association of Research Libraries, 2005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scholarly books*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1986-2004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 cost (per title) u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7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 expenditures u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3%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books publ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 number of books purchas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ains below 1986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* Source: “Monograph and Serial Expenditures in ARL Libraries, 1986-2004: graph 2” in </a:t>
            </a:r>
            <a:r>
              <a:rPr b="0" i="1" lang="en-US" sz="1000" spc="-1" strike="noStrike">
                <a:solidFill>
                  <a:srgbClr val="ffffff"/>
                </a:solidFill>
                <a:latin typeface="Garamond"/>
              </a:rPr>
              <a:t>ARL Statistics 2003-04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..  Washington, D.C.: Association of Research Libraries, 2005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-journals and e-books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eaper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brary budgets have not kept up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k and journal cost incr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86-2004: Increase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% per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Conn: No increase 2 of last 5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ibraries cut journal sub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ibraries buy fewer boo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this decrease in library purchasing mean for faculty members and research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ess access to current 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ess visibility of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your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s: National and international support for “open acces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lars/Authors: Pre-print archives, individual web s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: SPARC (lower-cost journals), institutional reposito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electronic repository of the intellectu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put of the University of Connecticu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ty, and [it] represents a way for UCon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rganize, store and preserve its research 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l form in a single unified locatio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 Jonathan Nabe, UConn Libra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aramond"/>
              </a:rPr>
              <a:t>Digital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mmons@UCon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shed mate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urnal arti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ok chap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vited pa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ical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earch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1444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published mate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king pa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erence pa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erence presen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al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est le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colloqu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s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0:43:41Z</dcterms:created>
  <dc:creator>Janice Christopher</dc:creator>
  <dc:description/>
  <dc:language>en-US</dc:language>
  <cp:lastModifiedBy>Jonathan Nabe</cp:lastModifiedBy>
  <dcterms:modified xsi:type="dcterms:W3CDTF">2006-05-24T14:52:02Z</dcterms:modified>
  <cp:revision>45</cp:revision>
  <dc:subject/>
  <dc:title>DigitalCommons@UConn</dc:title>
</cp:coreProperties>
</file>